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41DE5F-ADFD-41EB-B8BC-6CC9BDF05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1759B-A88F-4978-9BC2-53D8ADCB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0480" y="442404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DF783-8F9F-4E6C-A733-62830D4F8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713EC-4B8B-40AD-9EB1-98C508958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F8A5F2-7DFC-4091-A777-C8C9A7FAC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A3999-8632-497A-A9E2-067018AA1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96BB7-6193-4E70-BA26-42DD785E3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74F11-DE9E-4708-9EAC-FF0326E20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15732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418B7-AF7D-487D-8F06-5D3745993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90480" y="442404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A003C-8A66-410E-85C4-528C63216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67022-BD5B-4680-A61D-3AB49F62F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1880" y="442404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162BC-7CFF-4465-9098-C61A4563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A48C4-8E55-4FAB-9462-BB285C981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ADE89-5A3F-450C-AA65-E6BB637B9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14FC3-F1FE-43A3-A51F-7CECD1559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0480" y="4500720"/>
            <a:ext cx="56167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BA3C6-AC7F-47C7-BE22-F59F0D73E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B52-C6F1-48C1-83F2-BCC902C6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E95-68A7-453B-8AF8-E1CBB15C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C69-A053-46E7-96F5-3E900D38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60A-6E4C-4130-889D-878448DE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07C-2AE1-47F2-95C6-582C6ECC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CD4-95DB-4688-9332-ECCA63FC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0E8-EB96-4D50-A742-8E68D9BD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7FB-E518-48C4-B4F9-4B4C7D93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A94-A27D-4335-BC6E-F973D469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895-057F-4BE1-849B-A91AE7B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2F5-C3BA-4ACA-922B-B0F31D9A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BBF-0D27-449A-A681-8E946808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E68C-9D97-4961-B19D-1DE6FAFD9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OLOGICAL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742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MCj02322680000[1]"/>
          <p:cNvPicPr/>
          <p:nvPr/>
        </p:nvPicPr>
        <p:blipFill>
          <a:blip r:embed="rId1"/>
          <a:stretch/>
        </p:blipFill>
        <p:spPr>
          <a:xfrm>
            <a:off x="6553080" y="47242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e iso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e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e categ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honeme bl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honeme mani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MCj02322680000[1]"/>
          <p:cNvPicPr/>
          <p:nvPr/>
        </p:nvPicPr>
        <p:blipFill>
          <a:blip r:embed="rId1"/>
          <a:stretch/>
        </p:blipFill>
        <p:spPr>
          <a:xfrm>
            <a:off x="6248520" y="44956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an auditory ski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Cj0232268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173196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990720" y="35053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honic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dds prin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ic awareness is best taught in small grou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ess from easier activities (sound matching) to blending, segmenting and manip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gin with short words (2-3 phonemes: at, mu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MCj02322680000[1]"/>
          <p:cNvPicPr/>
          <p:nvPr/>
        </p:nvPicPr>
        <p:blipFill>
          <a:blip r:embed="rId1"/>
          <a:stretch/>
        </p:blipFill>
        <p:spPr>
          <a:xfrm>
            <a:off x="7162920" y="487692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cus first on initial, than final and lastly medial sou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 letter-sound correspondence instruction after children demonstrate early phonemic awaren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Cj02322680000[1]"/>
          <p:cNvPicPr/>
          <p:nvPr/>
        </p:nvPicPr>
        <p:blipFill>
          <a:blip r:embed="rId1"/>
          <a:stretch/>
        </p:blipFill>
        <p:spPr>
          <a:xfrm>
            <a:off x="7010280" y="47242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vide brief instructional sess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 each activity and provide lots of pract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MCj02322680000[1]"/>
          <p:cNvPicPr/>
          <p:nvPr/>
        </p:nvPicPr>
        <p:blipFill>
          <a:blip r:embed="rId1"/>
          <a:stretch/>
        </p:blipFill>
        <p:spPr>
          <a:xfrm>
            <a:off x="70866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ember that instruction in Phonemic Awareness is only one element of a comprehensive reading prog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ke it FU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Cj02322680000[1]"/>
          <p:cNvPicPr/>
          <p:nvPr/>
        </p:nvPicPr>
        <p:blipFill>
          <a:blip r:embed="rId1"/>
          <a:stretch/>
        </p:blipFill>
        <p:spPr>
          <a:xfrm>
            <a:off x="70866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ading and Language 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ading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udent demonstrates phonological awareness (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udent demonst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ic awareness (K-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MCj02322680000[1]"/>
          <p:cNvPicPr/>
          <p:nvPr/>
        </p:nvPicPr>
        <p:blipFill>
          <a:blip r:embed="rId1"/>
          <a:stretch/>
        </p:blipFill>
        <p:spPr>
          <a:xfrm>
            <a:off x="68580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honological Awarenes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the sensitivity to, or explicit awareness of, any aspect of phonological structure in language.  It encompasses awareness of individual words in sentences, syllables, and onset-rime segments, as well as awareness of individual speech sounds (phonem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ological Awarenes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tence Se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ll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sets and R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hon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MCj02322680000[1]"/>
          <p:cNvPicPr/>
          <p:nvPr/>
        </p:nvPicPr>
        <p:blipFill>
          <a:blip r:embed="rId1"/>
          <a:stretch/>
        </p:blipFill>
        <p:spPr>
          <a:xfrm>
            <a:off x="68580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the ability to notice, think about, or manipulate the individual sounds i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Cj02322680000[1]"/>
          <p:cNvPicPr/>
          <p:nvPr/>
        </p:nvPicPr>
        <p:blipFill>
          <a:blip r:embed="rId1"/>
          <a:stretch/>
        </p:blipFill>
        <p:spPr>
          <a:xfrm>
            <a:off x="6858000" y="441972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search over the past 20 years suggests that it is necessary for students to understand and master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n order to become good reade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MCj02322680000[1]"/>
          <p:cNvPicPr/>
          <p:nvPr/>
        </p:nvPicPr>
        <p:blipFill>
          <a:blip r:embed="rId1"/>
          <a:stretch/>
        </p:blipFill>
        <p:spPr>
          <a:xfrm>
            <a:off x="66294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an important skill because it strongly supports learning how the words in our language are represented in pri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Cj02322680000[1]"/>
          <p:cNvPicPr/>
          <p:nvPr/>
        </p:nvPicPr>
        <p:blipFill>
          <a:blip r:embed="rId1"/>
          <a:stretch/>
        </p:blipFill>
        <p:spPr>
          <a:xfrm>
            <a:off x="6553080" y="47242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glish is an alphabetic language.  The words in our language are represented roughly at the level of phonem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029200" y="50292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66680" y="480060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-a-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447920" y="54864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9" descr="MCj02322680000[1]"/>
          <p:cNvPicPr/>
          <p:nvPr/>
        </p:nvPicPr>
        <p:blipFill>
          <a:blip r:embed="rId1"/>
          <a:stretch/>
        </p:blipFill>
        <p:spPr>
          <a:xfrm>
            <a:off x="6248520" y="45720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Sounds-Sounds-S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mount to teaching phonemic awareness is the ability to say the sounds of the letters correct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MCj02322680000[1]"/>
          <p:cNvPicPr/>
          <p:nvPr/>
        </p:nvPicPr>
        <p:blipFill>
          <a:blip r:embed="rId1"/>
          <a:stretch/>
        </p:blipFill>
        <p:spPr>
          <a:xfrm>
            <a:off x="7086600" y="47242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2:35:04Z</dcterms:created>
  <dc:creator>Mary King</dc:creator>
  <dc:description/>
  <dc:language>en-US</dc:language>
  <cp:lastModifiedBy>ECSD</cp:lastModifiedBy>
  <dcterms:modified xsi:type="dcterms:W3CDTF">2010-04-16T17:20:18Z</dcterms:modified>
  <cp:revision>16</cp:revision>
  <dc:subject/>
  <dc:title>PHONEMIC AWARENESS</dc:title>
</cp:coreProperties>
</file>